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7.gif" ContentType="image/gif"/>
  <Override PartName="/ppt/media/image1.wmf" ContentType="image/x-wmf"/>
  <Override PartName="/ppt/media/image2.wmf" ContentType="image/x-wmf"/>
  <Override PartName="/ppt/media/chimes.wav" ContentType="audio/x-wav"/>
  <Override PartName="/ppt/media/MSj00748430000%5B1%5D.wav" ContentType="audio/x-wav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CAB9-9A74-442E-8D85-F9864293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2CF5-DFFF-44BA-93E5-F87A2842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6717-C1A0-4A71-8F8F-1DC56567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7B95-AD2D-4707-9F29-127B2D17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96BD-7504-43C5-BE5D-F5F489C8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7DE9-7116-49A8-8F30-C18D16E4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B9A3-FA11-41F2-BE84-3270A842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0735-4C03-42B8-8D39-5E6DF2A9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5499-2DA3-4243-ADE1-646983E4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98BC-7882-477F-89A5-C4411D63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0CAE-A50A-4815-A869-6E135EAA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E200-8FE0-4383-B09C-106FD7C7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FF16-7223-4E8B-8808-F64BDF33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9F8A-A134-455E-84B7-0C88CB47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430D-C5B9-42CC-9BD7-50C2A438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AE86-DB9C-459B-97F2-F30C7414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DEB3-2ABF-44F0-88E4-8429BA27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25C9-0C6D-4CDA-A68A-8FA28642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24F6-4E29-458E-A5EE-AB35A55D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C8E9-90C0-4976-8194-22B72C81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E4EA-10AE-4D84-8058-53A86015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4F07-9835-4CB8-8294-11CF60B1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5B65-D879-447B-A1C0-80B94840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6412-A56B-4FB9-9EB5-3A3178B9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89FD-D8F4-4529-831B-73F2F4458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FFD0-9DA4-47C2-BB57-73C53CE45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gi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1552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Making Words 6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2195640" y="1557360"/>
            <a:ext cx="576000" cy="576360"/>
          </a:xfrm>
          <a:custGeom>
            <a:avLst/>
            <a:gdLst>
              <a:gd name="textAreaLeft" fmla="*/ 177840 w 576000"/>
              <a:gd name="textAreaRight" fmla="*/ 398160 w 57600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2" h="576262">
                <a:moveTo>
                  <a:pt x="1" y="220112"/>
                </a:moveTo>
                <a:lnTo>
                  <a:pt x="220114" y="220113"/>
                </a:lnTo>
                <a:lnTo>
                  <a:pt x="288131" y="0"/>
                </a:lnTo>
                <a:lnTo>
                  <a:pt x="356148" y="220113"/>
                </a:lnTo>
                <a:lnTo>
                  <a:pt x="576261" y="220112"/>
                </a:lnTo>
                <a:lnTo>
                  <a:pt x="398185" y="356148"/>
                </a:lnTo>
                <a:lnTo>
                  <a:pt x="466206" y="576260"/>
                </a:lnTo>
                <a:lnTo>
                  <a:pt x="288131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298764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3780000" y="1557360"/>
            <a:ext cx="576000" cy="576360"/>
          </a:xfrm>
          <a:custGeom>
            <a:avLst/>
            <a:gdLst>
              <a:gd name="textAreaLeft" fmla="*/ 177840 w 576000"/>
              <a:gd name="textAreaRight" fmla="*/ 398160 w 57600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2" h="576262">
                <a:moveTo>
                  <a:pt x="1" y="220112"/>
                </a:moveTo>
                <a:lnTo>
                  <a:pt x="220114" y="220113"/>
                </a:lnTo>
                <a:lnTo>
                  <a:pt x="288131" y="0"/>
                </a:lnTo>
                <a:lnTo>
                  <a:pt x="356148" y="220113"/>
                </a:lnTo>
                <a:lnTo>
                  <a:pt x="576261" y="220112"/>
                </a:lnTo>
                <a:lnTo>
                  <a:pt x="398185" y="356148"/>
                </a:lnTo>
                <a:lnTo>
                  <a:pt x="466206" y="576260"/>
                </a:lnTo>
                <a:lnTo>
                  <a:pt x="288131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457200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AutoShape 12"/>
          <p:cNvSpPr/>
          <p:nvPr/>
        </p:nvSpPr>
        <p:spPr>
          <a:xfrm>
            <a:off x="543564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g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19" descr="MCj04110310000[1]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20"/>
          <p:cNvSpPr/>
          <p:nvPr/>
        </p:nvSpPr>
        <p:spPr>
          <a:xfrm>
            <a:off x="6516720" y="3284640"/>
            <a:ext cx="1584360" cy="792000"/>
          </a:xfrm>
          <a:prstGeom prst="wedgeEllipseCallout">
            <a:avLst>
              <a:gd name="adj1" fmla="val 27856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26" descr="MC900156471[1]"/>
          <p:cNvPicPr/>
          <p:nvPr/>
        </p:nvPicPr>
        <p:blipFill>
          <a:blip r:embed="rId2"/>
          <a:stretch/>
        </p:blipFill>
        <p:spPr>
          <a:xfrm>
            <a:off x="1116000" y="2492280"/>
            <a:ext cx="1212840" cy="1835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500"/>
                            </p:stCondLst>
                            <p:childTnLst>
                              <p:par>
                                <p:cTn id="13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3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2195640" y="1557360"/>
            <a:ext cx="576000" cy="576360"/>
          </a:xfrm>
          <a:custGeom>
            <a:avLst/>
            <a:gdLst>
              <a:gd name="textAreaLeft" fmla="*/ 177840 w 576000"/>
              <a:gd name="textAreaRight" fmla="*/ 398160 w 57600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2" h="576262">
                <a:moveTo>
                  <a:pt x="1" y="220112"/>
                </a:moveTo>
                <a:lnTo>
                  <a:pt x="220114" y="220113"/>
                </a:lnTo>
                <a:lnTo>
                  <a:pt x="288131" y="0"/>
                </a:lnTo>
                <a:lnTo>
                  <a:pt x="356148" y="220113"/>
                </a:lnTo>
                <a:lnTo>
                  <a:pt x="576261" y="220112"/>
                </a:lnTo>
                <a:lnTo>
                  <a:pt x="398185" y="356148"/>
                </a:lnTo>
                <a:lnTo>
                  <a:pt x="466206" y="576260"/>
                </a:lnTo>
                <a:lnTo>
                  <a:pt x="288131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298764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3780000" y="1557360"/>
            <a:ext cx="576000" cy="576360"/>
          </a:xfrm>
          <a:custGeom>
            <a:avLst/>
            <a:gdLst>
              <a:gd name="textAreaLeft" fmla="*/ 177840 w 576000"/>
              <a:gd name="textAreaRight" fmla="*/ 398160 w 57600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2" h="576262">
                <a:moveTo>
                  <a:pt x="1" y="220112"/>
                </a:moveTo>
                <a:lnTo>
                  <a:pt x="220114" y="220113"/>
                </a:lnTo>
                <a:lnTo>
                  <a:pt x="288131" y="0"/>
                </a:lnTo>
                <a:lnTo>
                  <a:pt x="356148" y="220113"/>
                </a:lnTo>
                <a:lnTo>
                  <a:pt x="576261" y="220112"/>
                </a:lnTo>
                <a:lnTo>
                  <a:pt x="398185" y="356148"/>
                </a:lnTo>
                <a:lnTo>
                  <a:pt x="466206" y="576260"/>
                </a:lnTo>
                <a:lnTo>
                  <a:pt x="288131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457200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543564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g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12" descr="MCj04110310000[1]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13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16" descr="MC900287192[1]"/>
          <p:cNvPicPr/>
          <p:nvPr/>
        </p:nvPicPr>
        <p:blipFill>
          <a:blip r:embed="rId2"/>
          <a:stretch/>
        </p:blipFill>
        <p:spPr>
          <a:xfrm>
            <a:off x="539640" y="2492280"/>
            <a:ext cx="1570320" cy="1211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9500"/>
                            </p:stCondLst>
                            <p:childTnLst>
                              <p:par>
                                <p:cTn id="26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7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7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7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8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2195640" y="1557360"/>
            <a:ext cx="576000" cy="576360"/>
          </a:xfrm>
          <a:custGeom>
            <a:avLst/>
            <a:gdLst>
              <a:gd name="textAreaLeft" fmla="*/ 177840 w 576000"/>
              <a:gd name="textAreaRight" fmla="*/ 398160 w 57600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2" h="576262">
                <a:moveTo>
                  <a:pt x="1" y="220112"/>
                </a:moveTo>
                <a:lnTo>
                  <a:pt x="220114" y="220113"/>
                </a:lnTo>
                <a:lnTo>
                  <a:pt x="288131" y="0"/>
                </a:lnTo>
                <a:lnTo>
                  <a:pt x="356148" y="220113"/>
                </a:lnTo>
                <a:lnTo>
                  <a:pt x="576261" y="220112"/>
                </a:lnTo>
                <a:lnTo>
                  <a:pt x="398185" y="356148"/>
                </a:lnTo>
                <a:lnTo>
                  <a:pt x="466206" y="576260"/>
                </a:lnTo>
                <a:lnTo>
                  <a:pt x="288131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298764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780000" y="1557360"/>
            <a:ext cx="576000" cy="576360"/>
          </a:xfrm>
          <a:custGeom>
            <a:avLst/>
            <a:gdLst>
              <a:gd name="textAreaLeft" fmla="*/ 177840 w 576000"/>
              <a:gd name="textAreaRight" fmla="*/ 398160 w 57600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2" h="576262">
                <a:moveTo>
                  <a:pt x="1" y="220112"/>
                </a:moveTo>
                <a:lnTo>
                  <a:pt x="220114" y="220113"/>
                </a:lnTo>
                <a:lnTo>
                  <a:pt x="288131" y="0"/>
                </a:lnTo>
                <a:lnTo>
                  <a:pt x="356148" y="220113"/>
                </a:lnTo>
                <a:lnTo>
                  <a:pt x="576261" y="220112"/>
                </a:lnTo>
                <a:lnTo>
                  <a:pt x="398185" y="356148"/>
                </a:lnTo>
                <a:lnTo>
                  <a:pt x="466206" y="576260"/>
                </a:lnTo>
                <a:lnTo>
                  <a:pt x="288131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457200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AutoShape 8"/>
          <p:cNvSpPr/>
          <p:nvPr/>
        </p:nvSpPr>
        <p:spPr>
          <a:xfrm>
            <a:off x="543564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g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12" descr="MCj04110310000[1]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13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15" descr="MC900281776[1]"/>
          <p:cNvPicPr/>
          <p:nvPr/>
        </p:nvPicPr>
        <p:blipFill>
          <a:blip r:embed="rId2"/>
          <a:stretch/>
        </p:blipFill>
        <p:spPr>
          <a:xfrm>
            <a:off x="826920" y="2637000"/>
            <a:ext cx="1670040" cy="1819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9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9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9500"/>
                            </p:stCondLst>
                            <p:childTnLst>
                              <p:par>
                                <p:cTn id="40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0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1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1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3500"/>
                            </p:stCondLst>
                            <p:childTnLst>
                              <p:par>
                                <p:cTn id="41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1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6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1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2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2195640" y="1557360"/>
            <a:ext cx="576000" cy="576360"/>
          </a:xfrm>
          <a:custGeom>
            <a:avLst/>
            <a:gdLst>
              <a:gd name="textAreaLeft" fmla="*/ 177840 w 576000"/>
              <a:gd name="textAreaRight" fmla="*/ 398160 w 57600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2" h="576262">
                <a:moveTo>
                  <a:pt x="1" y="220112"/>
                </a:moveTo>
                <a:lnTo>
                  <a:pt x="220114" y="220113"/>
                </a:lnTo>
                <a:lnTo>
                  <a:pt x="288131" y="0"/>
                </a:lnTo>
                <a:lnTo>
                  <a:pt x="356148" y="220113"/>
                </a:lnTo>
                <a:lnTo>
                  <a:pt x="576261" y="220112"/>
                </a:lnTo>
                <a:lnTo>
                  <a:pt x="398185" y="356148"/>
                </a:lnTo>
                <a:lnTo>
                  <a:pt x="466206" y="576260"/>
                </a:lnTo>
                <a:lnTo>
                  <a:pt x="288131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298764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3780000" y="1557360"/>
            <a:ext cx="576000" cy="576360"/>
          </a:xfrm>
          <a:custGeom>
            <a:avLst/>
            <a:gdLst>
              <a:gd name="textAreaLeft" fmla="*/ 177840 w 576000"/>
              <a:gd name="textAreaRight" fmla="*/ 398160 w 57600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2" h="576262">
                <a:moveTo>
                  <a:pt x="1" y="220112"/>
                </a:moveTo>
                <a:lnTo>
                  <a:pt x="220114" y="220113"/>
                </a:lnTo>
                <a:lnTo>
                  <a:pt x="288131" y="0"/>
                </a:lnTo>
                <a:lnTo>
                  <a:pt x="356148" y="220113"/>
                </a:lnTo>
                <a:lnTo>
                  <a:pt x="576261" y="220112"/>
                </a:lnTo>
                <a:lnTo>
                  <a:pt x="398185" y="356148"/>
                </a:lnTo>
                <a:lnTo>
                  <a:pt x="466206" y="576260"/>
                </a:lnTo>
                <a:lnTo>
                  <a:pt x="288131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457200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543564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12" descr="MCj04110310000[1]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13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15" descr="MP910221095[1]"/>
          <p:cNvPicPr/>
          <p:nvPr/>
        </p:nvPicPr>
        <p:blipFill>
          <a:blip r:embed="rId2"/>
          <a:stretch/>
        </p:blipFill>
        <p:spPr>
          <a:xfrm>
            <a:off x="755640" y="2276640"/>
            <a:ext cx="1817640" cy="27781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0"/>
                            </p:stCondLst>
                            <p:childTnLst>
                              <p:par>
                                <p:cTn id="528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3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90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9500"/>
                            </p:stCondLst>
                            <p:childTnLst>
                              <p:par>
                                <p:cTn id="54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4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5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5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5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7500"/>
                            </p:stCondLst>
                            <p:childTnLst>
                              <p:par>
                                <p:cTn id="55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5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2195640" y="1557360"/>
            <a:ext cx="576000" cy="576360"/>
          </a:xfrm>
          <a:custGeom>
            <a:avLst/>
            <a:gdLst>
              <a:gd name="textAreaLeft" fmla="*/ 177840 w 576000"/>
              <a:gd name="textAreaRight" fmla="*/ 398160 w 57600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2" h="576262">
                <a:moveTo>
                  <a:pt x="1" y="220112"/>
                </a:moveTo>
                <a:lnTo>
                  <a:pt x="220114" y="220113"/>
                </a:lnTo>
                <a:lnTo>
                  <a:pt x="288131" y="0"/>
                </a:lnTo>
                <a:lnTo>
                  <a:pt x="356148" y="220113"/>
                </a:lnTo>
                <a:lnTo>
                  <a:pt x="576261" y="220112"/>
                </a:lnTo>
                <a:lnTo>
                  <a:pt x="398185" y="356148"/>
                </a:lnTo>
                <a:lnTo>
                  <a:pt x="466206" y="576260"/>
                </a:lnTo>
                <a:lnTo>
                  <a:pt x="288131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298764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3780000" y="1557360"/>
            <a:ext cx="576000" cy="576360"/>
          </a:xfrm>
          <a:custGeom>
            <a:avLst/>
            <a:gdLst>
              <a:gd name="textAreaLeft" fmla="*/ 177840 w 576000"/>
              <a:gd name="textAreaRight" fmla="*/ 398160 w 57600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2" h="576262">
                <a:moveTo>
                  <a:pt x="1" y="220112"/>
                </a:moveTo>
                <a:lnTo>
                  <a:pt x="220114" y="220113"/>
                </a:lnTo>
                <a:lnTo>
                  <a:pt x="288131" y="0"/>
                </a:lnTo>
                <a:lnTo>
                  <a:pt x="356148" y="220113"/>
                </a:lnTo>
                <a:lnTo>
                  <a:pt x="576261" y="220112"/>
                </a:lnTo>
                <a:lnTo>
                  <a:pt x="398185" y="356148"/>
                </a:lnTo>
                <a:lnTo>
                  <a:pt x="466206" y="576260"/>
                </a:lnTo>
                <a:lnTo>
                  <a:pt x="288131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AutoShape 7"/>
          <p:cNvSpPr/>
          <p:nvPr/>
        </p:nvSpPr>
        <p:spPr>
          <a:xfrm>
            <a:off x="457200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AutoShape 8"/>
          <p:cNvSpPr/>
          <p:nvPr/>
        </p:nvSpPr>
        <p:spPr>
          <a:xfrm>
            <a:off x="543564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12" descr="MCj04110310000[1]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13"/>
          <p:cNvSpPr/>
          <p:nvPr/>
        </p:nvSpPr>
        <p:spPr>
          <a:xfrm>
            <a:off x="6516720" y="3284640"/>
            <a:ext cx="1584360" cy="792000"/>
          </a:xfrm>
          <a:prstGeom prst="wedgeEllipseCallout">
            <a:avLst>
              <a:gd name="adj1" fmla="val 27856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15" descr="MC900384276[1]"/>
          <p:cNvPicPr/>
          <p:nvPr/>
        </p:nvPicPr>
        <p:blipFill>
          <a:blip r:embed="rId2"/>
          <a:stretch/>
        </p:blipFill>
        <p:spPr>
          <a:xfrm>
            <a:off x="611280" y="2492280"/>
            <a:ext cx="1817640" cy="16812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6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6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9000"/>
                            </p:stCondLst>
                            <p:childTnLst>
                              <p:par>
                                <p:cTn id="6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9500"/>
                            </p:stCondLst>
                            <p:childTnLst>
                              <p:par>
                                <p:cTn id="68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8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1500"/>
                            </p:stCondLst>
                            <p:childTnLst>
                              <p:par>
                                <p:cTn id="686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8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9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500"/>
                            </p:stCondLst>
                            <p:childTnLst>
                              <p:par>
                                <p:cTn id="69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9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7500"/>
                            </p:stCondLst>
                            <p:childTnLst>
                              <p:par>
                                <p:cTn id="69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9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2195640" y="1557360"/>
            <a:ext cx="576000" cy="576360"/>
          </a:xfrm>
          <a:custGeom>
            <a:avLst/>
            <a:gdLst>
              <a:gd name="textAreaLeft" fmla="*/ 177840 w 576000"/>
              <a:gd name="textAreaRight" fmla="*/ 398160 w 57600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2" h="576262">
                <a:moveTo>
                  <a:pt x="1" y="220112"/>
                </a:moveTo>
                <a:lnTo>
                  <a:pt x="220114" y="220113"/>
                </a:lnTo>
                <a:lnTo>
                  <a:pt x="288131" y="0"/>
                </a:lnTo>
                <a:lnTo>
                  <a:pt x="356148" y="220113"/>
                </a:lnTo>
                <a:lnTo>
                  <a:pt x="576261" y="220112"/>
                </a:lnTo>
                <a:lnTo>
                  <a:pt x="398185" y="356148"/>
                </a:lnTo>
                <a:lnTo>
                  <a:pt x="466206" y="576260"/>
                </a:lnTo>
                <a:lnTo>
                  <a:pt x="288131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298764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3780000" y="1557360"/>
            <a:ext cx="576000" cy="576360"/>
          </a:xfrm>
          <a:custGeom>
            <a:avLst/>
            <a:gdLst>
              <a:gd name="textAreaLeft" fmla="*/ 177840 w 576000"/>
              <a:gd name="textAreaRight" fmla="*/ 398160 w 57600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2" h="576262">
                <a:moveTo>
                  <a:pt x="1" y="220112"/>
                </a:moveTo>
                <a:lnTo>
                  <a:pt x="220114" y="220113"/>
                </a:lnTo>
                <a:lnTo>
                  <a:pt x="288131" y="0"/>
                </a:lnTo>
                <a:lnTo>
                  <a:pt x="356148" y="220113"/>
                </a:lnTo>
                <a:lnTo>
                  <a:pt x="576261" y="220112"/>
                </a:lnTo>
                <a:lnTo>
                  <a:pt x="398185" y="356148"/>
                </a:lnTo>
                <a:lnTo>
                  <a:pt x="466206" y="576260"/>
                </a:lnTo>
                <a:lnTo>
                  <a:pt x="288131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457200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5435640" y="1557360"/>
            <a:ext cx="576360" cy="576360"/>
          </a:xfrm>
          <a:custGeom>
            <a:avLst/>
            <a:gdLst>
              <a:gd name="textAreaLeft" fmla="*/ 178200 w 576360"/>
              <a:gd name="textAreaRight" fmla="*/ 398160 w 5763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6263" h="576262">
                <a:moveTo>
                  <a:pt x="1" y="220112"/>
                </a:moveTo>
                <a:lnTo>
                  <a:pt x="220114" y="220113"/>
                </a:lnTo>
                <a:lnTo>
                  <a:pt x="288132" y="0"/>
                </a:lnTo>
                <a:lnTo>
                  <a:pt x="356149" y="220113"/>
                </a:lnTo>
                <a:lnTo>
                  <a:pt x="576262" y="220112"/>
                </a:lnTo>
                <a:lnTo>
                  <a:pt x="398186" y="356148"/>
                </a:lnTo>
                <a:lnTo>
                  <a:pt x="466207" y="576260"/>
                </a:lnTo>
                <a:lnTo>
                  <a:pt x="288132" y="440222"/>
                </a:lnTo>
                <a:lnTo>
                  <a:pt x="110056" y="576260"/>
                </a:lnTo>
                <a:lnTo>
                  <a:pt x="178077" y="356148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12" descr="MCj04110310000[1]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13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Picture 15" descr="MM900041144[1]"/>
          <p:cNvPicPr/>
          <p:nvPr/>
        </p:nvPicPr>
        <p:blipFill>
          <a:blip r:embed="rId2"/>
          <a:stretch/>
        </p:blipFill>
        <p:spPr>
          <a:xfrm>
            <a:off x="539640" y="2781360"/>
            <a:ext cx="1728720" cy="1585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0"/>
                            </p:stCondLst>
                            <p:childTnLst>
                              <p:par>
                                <p:cTn id="804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9000"/>
                            </p:stCondLst>
                            <p:childTnLst>
                              <p:par>
                                <p:cTn id="8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9500"/>
                            </p:stCondLst>
                            <p:childTnLst>
                              <p:par>
                                <p:cTn id="82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1500"/>
                            </p:stCondLst>
                            <p:childTnLst>
                              <p:par>
                                <p:cTn id="82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3500"/>
                            </p:stCondLst>
                            <p:childTnLst>
                              <p:par>
                                <p:cTn id="82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2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3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3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3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uper work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are amazing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try and make up some words yourself.  Use the same beginning and ending but change the vowel sou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0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16:09:57Z</dcterms:created>
  <dc:creator>Franklin</dc:creator>
  <dc:description/>
  <dc:language>en-US</dc:language>
  <cp:lastModifiedBy>Gabriella</cp:lastModifiedBy>
  <dcterms:modified xsi:type="dcterms:W3CDTF">2011-08-23T14:47:31Z</dcterms:modified>
  <cp:revision>9</cp:revision>
  <dc:subject/>
  <dc:title>Making Words</dc:title>
</cp:coreProperties>
</file>